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9C7-65B3-4643-9D75-6D0033AA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048-D679-41F2-A490-618DBC2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20B-758E-42AA-A410-3858E279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404-6B09-4870-BBAC-F4D3865B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69E-F21C-4025-A9B6-0E02D3B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0D0-61B9-458B-BD9C-FEE2DD1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27C-5210-4DB4-9271-A40FBFC2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0B6-B96F-456F-9583-123A134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68F-D366-478A-B586-43038A8C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B96-E50B-460C-85E1-78EC402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699-9448-4BB7-9E80-BB8A3F8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493-6934-4FC4-89F6-67A2282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745E-EDD8-403D-B8A9-1B967C54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ezess engem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ösvényeden, ó, Uram!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Útjaid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mertesd meg még jobba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szívem kiáltja: szeretlek Tége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rős karod támogass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en nap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Te utad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líd hang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ólj hozzám, ó, Ura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iss kenet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radjon rám gazdago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ogy szívemben égjen szent tüz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És hűséggel kövessele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en nap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Te utad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34:58Z</dcterms:created>
  <dc:creator>Gyügyei Tamás</dc:creator>
  <dc:description/>
  <dc:language>en-US</dc:language>
  <cp:lastModifiedBy>Gyügyei Tamás</cp:lastModifiedBy>
  <dcterms:modified xsi:type="dcterms:W3CDTF">2003-11-08T19:03:13Z</dcterms:modified>
  <cp:revision>43</cp:revision>
  <dc:subject/>
  <dc:title>PowerPoint bemutató</dc:title>
</cp:coreProperties>
</file>